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DA2BA-92F0-4D04-965D-B87099CDF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ADF0C-6545-4DA4-91AF-C50C43459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8DDCC-ABE7-48F1-829E-8EEA27888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2EBCB-3982-46A6-93A8-B9DFFA8D9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8B7AE-992E-4123-BB4A-71E7F1A0B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3699A-270B-4C62-A3AB-CB5F00CBD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5D005-D64F-4D4E-9996-B3AC93FA7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3EE80-4B66-4FB4-90A0-2FD5F0236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4F2B1-8D01-4B32-A6DC-4828E33BF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2F687-CAC0-4F58-9F5F-E9CC70BFE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FF57B-5344-4C9F-9899-3C5E0A2CC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DADF0-C742-4289-89CF-7BB253D8B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AF76-43CF-4183-A61E-E9E9E1305B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Shrinking Plane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Portfolio Presen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ie Fau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Summar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rinking World is a once weekly, year-long unit within the World Geography class to be taught to an 8</a:t>
            </a:r>
            <a:r>
              <a:rPr b="0" lang="en-US" sz="2000" spc="-1" strike="noStrike" baseline="30000">
                <a:solidFill>
                  <a:srgbClr val="000000"/>
                </a:solidFill>
                <a:latin typeface="Arial"/>
              </a:rPr>
              <a:t>th</a:t>
            </a:r>
            <a:r>
              <a:rPr b="0" lang="en-US" sz="2000" spc="-1" strike="noStrike">
                <a:solidFill>
                  <a:srgbClr val="000000"/>
                </a:solidFill>
                <a:latin typeface="Arial"/>
              </a:rPr>
              <a:t> grade class and offered for high school credi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ill afford students a long term, project based study which will allow fo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ndividual as well as group researc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reative expres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llaboration on an end produc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n avenue to synthesis, analyze and predict from gathered  inform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end product will be  a chance for personal reflection on our world society  as well as each student’s individual  place in our shrinking wor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iculum Framing Questio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ntial Question</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are we all the sa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Questions</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800" spc="-1" strike="noStrike">
                <a:solidFill>
                  <a:srgbClr val="000000"/>
                </a:solidFill>
                <a:latin typeface="Arial"/>
              </a:rPr>
              <a:t>How are human groups influenced by climate and geograph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are human groups influenced by culture and relig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 Questions</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600" spc="-1" strike="noStrike">
                <a:solidFill>
                  <a:srgbClr val="000000"/>
                </a:solidFill>
                <a:latin typeface="Arial"/>
              </a:rPr>
              <a:t>How does your chosen area differ from those chosen by your teammat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at are the historical influences on your chosen are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fine your chosen area by climate, geography. culture and religi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at are your predictions for the future trends of your are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Shrinking World</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ject will help my students develop 21st century skills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the interconnections among syst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shared responsibility for collaborative wo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chnology to research, organize, evaluate and communicate inform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me, analyze and synthesize  information in order to solve problems and answer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of the student needs assessment is to gather information on what the students already know about the climatic, geographic, cultural and religious influences on the world they live 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 long group activities and student shares and individual research  will serve as formative assessmen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order thinking skills will be promoted  by guiding students to use the information which they have amassed throughout the school year to produce an end product  in which they will not only inform but also to elaborate and  predi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Goals for the Course</a:t>
            </a:r>
            <a:endParaRPr b="0" lang="en-US" sz="4400" spc="-1" strike="noStrike">
              <a:solidFill>
                <a:srgbClr val="000000"/>
              </a:solidFill>
              <a:latin typeface="Arial"/>
            </a:endParaRPr>
          </a:p>
        </p:txBody>
      </p:sp>
      <p:sp>
        <p:nvSpPr>
          <p:cNvPr id="52" name="PlaceHolder 2"/>
          <p:cNvSpPr>
            <a:spLocks noGrp="1"/>
          </p:cNvSpPr>
          <p:nvPr>
            <p:ph/>
          </p:nvPr>
        </p:nvSpPr>
        <p:spPr>
          <a:xfrm>
            <a:off x="533520" y="23320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ways to incorporate self directed learning into a highly fact oriented curricul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my students use their interest in technology to enhance interest in class mater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 my students an opportunity to share a final product as well as complete a state mandated t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for my student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elp my students become responsible members of an ever increasingly global commun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elp my students think critically by drawing conclusions through research and evaluation rather than peer pressure and hears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 for Feedback</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s I could find students in other cultures to share our projects with as well as gather information fr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for helping students go from gatherers of information to synthesizers  of information and  predictors of future ev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7:42:07Z</dcterms:created>
  <dc:creator>afaust</dc:creator>
  <dc:description/>
  <dc:language>en-US</dc:language>
  <cp:lastModifiedBy>afaust</cp:lastModifiedBy>
  <dcterms:modified xsi:type="dcterms:W3CDTF">2009-04-13T18:50:19Z</dcterms:modified>
  <cp:revision>2</cp:revision>
  <dc:subject/>
  <dc:title>Our Shrinking Planet</dc:title>
</cp:coreProperties>
</file>